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8111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echnic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echnic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65123-35BF-4F9B-A44E-5B866A29E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74415-F64D-4FF0-9D4D-40B8304BF5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echnic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8AA5-6B4B-4F41-A4B3-4D3C70B6F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25AF-CAD0-415E-AE63-0D04EDBEB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5320-47B5-4212-A901-494790899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0E71-D67D-461F-BA0E-F5DD13D16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61B67-CD57-4CBF-8177-E31163098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0BB16-C4DD-4E45-A93A-DA339B0F5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455A3-3806-4253-8F14-639F60273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295C9-A0AE-4EEB-9E7A-25E9C11D9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E02C9-E6EC-4E38-BBDB-EE93964AC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BC3C5-9BA6-4956-97A5-665AF7D8F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CA20C-8941-41CE-B8F4-32D00F87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B499-FD72-4B48-B0FB-78D13382A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7ECE6-70BA-43CD-AACB-B0A2364AC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CE992-2DC3-4A95-8878-0F787F0C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3D5C5-C010-4FC9-A8D8-2C7634C96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9F1F1-F03A-4CC2-8127-48A9B9508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E8583-EB0B-4BB3-BA09-039D0945D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2F3B-4930-4982-878D-5FF613269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39F0-F8AC-4DDD-A4B7-6462D3168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4540-F1A6-4C1F-879C-3CA7D5E8E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4796-806A-44F6-B2BA-056062214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6556-4A82-4E97-8100-194FAC63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A310-5B31-4ECC-9B97-EAAA12A9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40D7-E14A-4964-ADAC-76D7277B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A:\minispir.GIF"/>
          <p:cNvPicPr/>
          <p:nvPr/>
        </p:nvPicPr>
        <p:blipFill>
          <a:blip r:embed="rId3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A:\minispir.GIF"/>
          <p:cNvPicPr/>
          <p:nvPr/>
        </p:nvPicPr>
        <p:blipFill>
          <a:blip r:embed="rId4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8111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Click to edit the outline text format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  <a:p>
            <a:pPr lvl="1" marL="646200" indent="-248400">
              <a:spcBef>
                <a:spcPts val="901"/>
              </a:spcBef>
              <a:buClr>
                <a:srgbClr val="2c8111"/>
              </a:buClr>
              <a:buFont typeface="Technic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Second Outline Level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  <a:p>
            <a:pPr lvl="2" marL="994320" indent="-19872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Third Outline Level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  <a:p>
            <a:pPr lvl="3" marL="1392120" indent="-198720">
              <a:spcBef>
                <a:spcPts val="901"/>
              </a:spcBef>
              <a:buClr>
                <a:srgbClr val="2c8111"/>
              </a:buClr>
              <a:buFont typeface="Technic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Fourth Outline Level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  <a:p>
            <a:pPr lvl="4" marL="1789920" indent="-198720">
              <a:spcBef>
                <a:spcPts val="901"/>
              </a:spcBef>
              <a:buClr>
                <a:srgbClr val="2c8111"/>
              </a:buClr>
              <a:buFont typeface="Technic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Fifth Outline Level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  <a:p>
            <a:pPr lvl="5" marL="1789920" indent="-198720">
              <a:spcBef>
                <a:spcPts val="901"/>
              </a:spcBef>
              <a:buClr>
                <a:srgbClr val="000000"/>
              </a:buClr>
              <a:buFont typeface="Technic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Sixth Outline Level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  <a:p>
            <a:pPr lvl="6" marL="1789920" indent="-198720">
              <a:spcBef>
                <a:spcPts val="901"/>
              </a:spcBef>
              <a:buClr>
                <a:srgbClr val="000000"/>
              </a:buClr>
              <a:buFont typeface="Technic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Seventh Outline Level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048120" y="6400440"/>
            <a:ext cx="4038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D0054-E132-487E-9553-488140B0FDC9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orgtpf1.wav" descr=""/>
          <p:cNvPicPr/>
          <p:nvPr/>
        </p:nvPicPr>
        <p:blipFill>
          <a:blip r:embed="rId5"/>
          <a:stretch/>
        </p:blipFill>
        <p:spPr>
          <a:xfrm>
            <a:off x="0" y="6477120"/>
            <a:ext cx="152280" cy="15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8111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Click to edit the outline text format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  <a:p>
            <a:pPr lvl="1" marL="646200" indent="-248400">
              <a:spcBef>
                <a:spcPts val="901"/>
              </a:spcBef>
              <a:buClr>
                <a:srgbClr val="2c8111"/>
              </a:buClr>
              <a:buFont typeface="Technic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Second Outline Level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  <a:p>
            <a:pPr lvl="2" marL="994320" indent="-19872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Third Outline Level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  <a:p>
            <a:pPr lvl="3" marL="1392120" indent="-198720">
              <a:spcBef>
                <a:spcPts val="901"/>
              </a:spcBef>
              <a:buClr>
                <a:srgbClr val="2c8111"/>
              </a:buClr>
              <a:buFont typeface="Technic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Fourth Outline Level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  <a:p>
            <a:pPr lvl="4" marL="1789920" indent="-198720">
              <a:spcBef>
                <a:spcPts val="901"/>
              </a:spcBef>
              <a:buClr>
                <a:srgbClr val="2c8111"/>
              </a:buClr>
              <a:buFont typeface="Technic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Fifth Outline Level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  <a:p>
            <a:pPr lvl="5" marL="1789920" indent="-198720">
              <a:spcBef>
                <a:spcPts val="901"/>
              </a:spcBef>
              <a:buClr>
                <a:srgbClr val="000000"/>
              </a:buClr>
              <a:buFont typeface="Technic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Sixth Outline Level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  <a:p>
            <a:pPr lvl="6" marL="1789920" indent="-198720">
              <a:spcBef>
                <a:spcPts val="901"/>
              </a:spcBef>
              <a:buClr>
                <a:srgbClr val="000000"/>
              </a:buClr>
              <a:buFont typeface="Technic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Seventh Outline Level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rch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2004 Anthony A. Luscre Mogadore Local Schoo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B03E9-41C3-4D49-AEAC-FA7CFAC63F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ogadore.summit.k12.oh.us/portal/search.html" TargetMode="External"/><Relationship Id="rId2" Type="http://schemas.openxmlformats.org/officeDocument/2006/relationships/hyperlink" Target="http://www.mogadore.summit.k12.oh.us/portal/search.html" TargetMode="External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6201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2929"/>
                </a:solidFill>
                <a:latin typeface="Tahoma"/>
              </a:rPr>
              <a:t>Beyond Searching-</a:t>
            </a:r>
            <a:r>
              <a:rPr b="0" lang="en-US" sz="3200" spc="-1" strike="noStrike">
                <a:solidFill>
                  <a:srgbClr val="2c8111"/>
                </a:solidFill>
                <a:latin typeface="Tahoma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2c8111"/>
                </a:solidFill>
                <a:latin typeface="Tahoma"/>
              </a:rPr>
              <a:t>Guerrilla Tactics to </a:t>
            </a:r>
            <a:br>
              <a:rPr sz="3200"/>
            </a:br>
            <a:r>
              <a:rPr b="0" lang="en-US" sz="3200" spc="-1" strike="noStrike">
                <a:solidFill>
                  <a:srgbClr val="2c8111"/>
                </a:solidFill>
                <a:latin typeface="Tahoma"/>
              </a:rPr>
              <a:t>Get the Information You Want &amp; </a:t>
            </a:r>
            <a:br>
              <a:rPr sz="3200"/>
            </a:br>
            <a:r>
              <a:rPr b="0" lang="en-US" sz="3200" spc="-1" strike="noStrike">
                <a:solidFill>
                  <a:srgbClr val="2c8111"/>
                </a:solidFill>
                <a:latin typeface="Tahoma"/>
              </a:rPr>
              <a:t>Know What You're Getting</a:t>
            </a:r>
            <a:endParaRPr b="1" lang="en-US" sz="32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676520" y="2666880"/>
            <a:ext cx="64008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8111"/>
                </a:solidFill>
                <a:latin typeface="Technical"/>
              </a:rPr>
              <a:t>-------------------</a:t>
            </a:r>
            <a:endParaRPr b="1" lang="en-US" sz="2000" spc="-1" strike="noStrike">
              <a:solidFill>
                <a:srgbClr val="2c8111"/>
              </a:solidFill>
              <a:latin typeface="Technic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Anthony A. Luscre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c8111"/>
                </a:solidFill>
                <a:latin typeface="Technical"/>
              </a:rPr>
              <a:t>Director of Technology</a:t>
            </a:r>
            <a:endParaRPr b="1" lang="en-US" sz="2800" spc="-1" strike="noStrike">
              <a:solidFill>
                <a:srgbClr val="2c8111"/>
              </a:solidFill>
              <a:latin typeface="Technic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8111"/>
                </a:solidFill>
                <a:latin typeface="Technical"/>
              </a:rPr>
              <a:t>Mogadore Local Schools</a:t>
            </a: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 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  <p:pic>
        <p:nvPicPr>
          <p:cNvPr id="100" name="Picture 5" descr="file:///C:/Documents%20and%20Settings/Anthony/My%20Documents/Mogadore_Web_Page/coolcat2_small.gif"/>
          <p:cNvPicPr/>
          <p:nvPr/>
        </p:nvPicPr>
        <p:blipFill>
          <a:blip r:embed="rId1"/>
          <a:stretch/>
        </p:blipFill>
        <p:spPr>
          <a:xfrm>
            <a:off x="4114800" y="5334120"/>
            <a:ext cx="1523880" cy="11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B6E34-4276-49C1-9661-90550566F2A5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8111"/>
                </a:solidFill>
                <a:latin typeface="Tahoma"/>
              </a:rPr>
              <a:t>Wording</a:t>
            </a: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Choose the wording of your query carefully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Know which words are ignored by your SE. These "stop words" or "trivial text" include </a:t>
            </a:r>
            <a:r>
              <a:rPr b="1" i="1" lang="en-US" sz="3600" spc="-1" strike="noStrike">
                <a:solidFill>
                  <a:srgbClr val="2c8111"/>
                </a:solidFill>
                <a:latin typeface="Technical"/>
              </a:rPr>
              <a:t>where, how, a, the, etc</a:t>
            </a: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.) You can force the engine to use these words by adding a “</a:t>
            </a:r>
            <a:r>
              <a:rPr b="0" lang="en-US" sz="3600" spc="-1" strike="noStrike">
                <a:solidFill>
                  <a:srgbClr val="2c8111"/>
                </a:solidFill>
                <a:latin typeface="Andale Mono"/>
              </a:rPr>
              <a:t>+</a:t>
            </a: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” before the word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8A3BF-BF68-4560-9C2C-9480407FA026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8111"/>
                </a:solidFill>
                <a:latin typeface="Tahoma"/>
              </a:rPr>
              <a:t>Wording </a:t>
            </a: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Know how to exclude words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  <a:p>
            <a:pPr marL="291600" indent="-291600">
              <a:lnSpc>
                <a:spcPct val="90000"/>
              </a:lnSpc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Try a variety of words &amp; word orders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  <a:p>
            <a:pPr marL="291600" indent="-291600">
              <a:lnSpc>
                <a:spcPct val="90000"/>
              </a:lnSpc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Use words that are unique to the item you are searching for-- author's name, specific state or city, dates or specialized terms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  <a:p>
            <a:pPr marL="291600" indent="-291600">
              <a:lnSpc>
                <a:spcPct val="90000"/>
              </a:lnSpc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Use words that experts in that field would use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B0D14-C6E0-46AA-910E-65FEDD1F678C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8111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2c8111"/>
                </a:solidFill>
                <a:latin typeface="Tahoma"/>
              </a:rPr>
              <a:t>Results Page</a:t>
            </a:r>
            <a:r>
              <a:rPr b="1" lang="en-US" sz="4400" spc="-1" strike="noStrike">
                <a:solidFill>
                  <a:srgbClr val="2c8111"/>
                </a:solidFill>
                <a:latin typeface="Technical"/>
              </a:rPr>
              <a:t> </a:t>
            </a: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c8111"/>
                </a:solidFill>
                <a:latin typeface="Technical"/>
              </a:rPr>
              <a:t>Just because an item is listed first, does not mean it is the best resource !</a:t>
            </a: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 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7D4CC-D217-4787-9E45-CB310E70AB1C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8111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2c8111"/>
                </a:solidFill>
                <a:latin typeface="Tahoma"/>
              </a:rPr>
              <a:t>Results Page</a:t>
            </a:r>
            <a:r>
              <a:rPr b="1" lang="en-US" sz="4400" spc="-1" strike="noStrike">
                <a:solidFill>
                  <a:srgbClr val="2c8111"/>
                </a:solidFill>
                <a:latin typeface="Technical"/>
              </a:rPr>
              <a:t> </a:t>
            </a: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What factors influence site ranking?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  <a:p>
            <a:pPr marL="294840" indent="-294840">
              <a:lnSpc>
                <a:spcPct val="90000"/>
              </a:lnSpc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Recognize advertisements &amp; paid placement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  <a:p>
            <a:pPr marL="294840" indent="-294840">
              <a:lnSpc>
                <a:spcPct val="90000"/>
              </a:lnSpc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Develop a strategy for reading listed pages' descriptions to choose best candidates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  <a:p>
            <a:pPr marL="294840" indent="-294840">
              <a:lnSpc>
                <a:spcPct val="90000"/>
              </a:lnSpc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Learn how to read the URL (address) of a site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68202-3EC8-4A89-A175-1F5DA028604A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8111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2c8111"/>
                </a:solidFill>
                <a:latin typeface="Tahoma"/>
              </a:rPr>
              <a:t>Advertising</a:t>
            </a:r>
            <a:r>
              <a:rPr b="1" lang="en-US" sz="4400" spc="-1" strike="noStrike">
                <a:solidFill>
                  <a:srgbClr val="2c8111"/>
                </a:solidFill>
                <a:latin typeface="Technical"/>
              </a:rPr>
              <a:t> </a:t>
            </a: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Distinguish between advertisements and valid search results. 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  <a:p>
            <a:pPr marL="343080" indent="-34308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Recognize "pay to place", "pay-to-click" &amp; "click revenue." Know how vendors bid on key words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BF736-1A48-49C2-85A9-1B5142B69E33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8111"/>
                </a:solidFill>
                <a:latin typeface="Tahoma"/>
              </a:rPr>
              <a:t>Advertising</a:t>
            </a: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To find out how much a key word or phrase costs today: visit overture.com, search for word &amp; click on the link on right-top corner- “view advertiser’s maximum bids”.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64EFD-C1BD-4CF0-8567-FBA9642AA5CD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8111"/>
                </a:solidFill>
                <a:latin typeface="Tahoma"/>
              </a:rPr>
              <a:t>Advertising</a:t>
            </a: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Pay-Per-Click-- each time you click on a link from the search engine to the high bidding company, that company pays the search engine that amount of money!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4CC01-A9B5-40D3-B7D9-90598575DB63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8111"/>
                </a:solidFill>
                <a:latin typeface="Tahoma"/>
              </a:rPr>
              <a:t>Trim # of Pages Found</a:t>
            </a: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Trim # of Pages Found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  <a:p>
            <a:pPr marL="343080" indent="-34308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Use key words found in the listings of your search results to refine your search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2B891-2CAA-4A65-87C9-83F48A62A6CA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8111"/>
                </a:solidFill>
                <a:latin typeface="Tahoma"/>
              </a:rPr>
              <a:t>Trim # of Pages Found</a:t>
            </a: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If many of the sites contain a word you do not want, go back and exclude that word and then repeat the search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  <a:p>
            <a:pPr marL="343080" indent="-34308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If many of the sites found are "too generic", choose word(s) to narrow search 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D226E-2C70-4854-8AB7-5FFBB857A0E3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8111"/>
                </a:solidFill>
                <a:latin typeface="Tahoma"/>
              </a:rPr>
              <a:t>Trim # of Pages Found</a:t>
            </a: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If found sites have all the right words but in the wrong order, go back and enter them in "exact phrase" box. Then repeat the search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4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ooter Placeholder 5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Slide Number Placeholder 6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098EC-2C33-42BF-BD51-91FC9685F878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8111"/>
                </a:solidFill>
                <a:latin typeface="Tahoma"/>
              </a:rPr>
              <a:t>“</a:t>
            </a:r>
            <a:r>
              <a:rPr b="1" lang="en-US" sz="4000" spc="-1" strike="noStrike">
                <a:solidFill>
                  <a:srgbClr val="2c8111"/>
                </a:solidFill>
                <a:latin typeface="Tahoma"/>
              </a:rPr>
              <a:t>Go ask your search Engine.”</a:t>
            </a:r>
            <a:endParaRPr b="1" lang="en-US" sz="4000" spc="-1" strike="noStrike">
              <a:solidFill>
                <a:srgbClr val="2c8111"/>
              </a:solidFill>
              <a:latin typeface="Tahoma"/>
            </a:endParaRPr>
          </a:p>
        </p:txBody>
      </p:sp>
      <p:pic>
        <p:nvPicPr>
          <p:cNvPr id="105" name="Picture 6" descr="C:\Documents and Settings\Administrator\My Documents\osn\tech_conf_04\dad.gif"/>
          <p:cNvPicPr/>
          <p:nvPr/>
        </p:nvPicPr>
        <p:blipFill>
          <a:blip r:embed="rId1"/>
          <a:stretch/>
        </p:blipFill>
        <p:spPr>
          <a:xfrm>
            <a:off x="1066680" y="1522440"/>
            <a:ext cx="7543800" cy="50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55158-CC06-447B-B38C-7594131B6193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8111"/>
                </a:solidFill>
                <a:latin typeface="Tahoma"/>
              </a:rPr>
              <a:t>Quality of Pages Found</a:t>
            </a: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8111"/>
                </a:solidFill>
                <a:latin typeface="Technical"/>
              </a:rPr>
              <a:t>Visit a few of the sites on your results page that show promise based on their descriptions, URL, dates, etc.</a:t>
            </a:r>
            <a:endParaRPr b="1" lang="en-US" sz="3200" spc="-1" strike="noStrike">
              <a:solidFill>
                <a:srgbClr val="2c8111"/>
              </a:solidFill>
              <a:latin typeface="Technical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8111"/>
                </a:solidFill>
                <a:latin typeface="Technical"/>
              </a:rPr>
              <a:t>Evaluate if you have found valid information that you were searching for</a:t>
            </a:r>
            <a:endParaRPr b="1" lang="en-US" sz="3200" spc="-1" strike="noStrike">
              <a:solidFill>
                <a:srgbClr val="2c8111"/>
              </a:solidFill>
              <a:latin typeface="Technical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8111"/>
                </a:solidFill>
                <a:latin typeface="Technical"/>
              </a:rPr>
              <a:t>Decide if you need to refine your search </a:t>
            </a:r>
            <a:endParaRPr b="1" lang="en-US" sz="3200" spc="-1" strike="noStrike">
              <a:solidFill>
                <a:srgbClr val="2c8111"/>
              </a:solidFill>
              <a:latin typeface="Technical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8111"/>
                </a:solidFill>
                <a:latin typeface="Technical"/>
              </a:rPr>
              <a:t>Check pages for links to other pages that might provide more relevant information</a:t>
            </a:r>
            <a:endParaRPr b="1" lang="en-US" sz="3200" spc="-1" strike="noStrike">
              <a:solidFill>
                <a:srgbClr val="2c8111"/>
              </a:solidFill>
              <a:latin typeface="Technical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8111"/>
                </a:solidFill>
                <a:latin typeface="Technical"/>
              </a:rPr>
              <a:t>These are just the first steps in evaluating the pages you find, more on evaluating later in this presentation…</a:t>
            </a:r>
            <a:endParaRPr b="1" lang="en-US" sz="20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AEBFC-FADE-499E-A59B-F6206ABD2E89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8111"/>
                </a:solidFill>
                <a:latin typeface="Tahoma"/>
              </a:rPr>
              <a:t>URLs of Sites (Addresses)</a:t>
            </a: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"…Uniform Resource Locator, the global address of documents &amp; other resources on the World Wide Web." – from Webopedia.com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  <a:p>
            <a:pPr marL="301680" indent="-30168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Information about a site’s owner based on .com, .edu, .gov, etc. can be helpful but is not always consistent.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D224B-47DE-44A2-A25E-9D4B0A67116B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8111"/>
                </a:solidFill>
                <a:latin typeface="Tahoma"/>
              </a:rPr>
              <a:t>URLs of Sites</a:t>
            </a: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8111"/>
                </a:solidFill>
                <a:latin typeface="Technical"/>
              </a:rPr>
              <a:t>Caution Signs- Specific characters (@, ~, #, etc.) can cause an address to…</a:t>
            </a:r>
            <a:r>
              <a:rPr b="1" i="1" lang="en-US" sz="4400" spc="-1" strike="noStrike">
                <a:solidFill>
                  <a:srgbClr val="2c8111"/>
                </a:solidFill>
                <a:latin typeface="Technical"/>
              </a:rPr>
              <a:t>	</a:t>
            </a:r>
            <a:r>
              <a:rPr b="1" i="1" lang="en-US" sz="4400" spc="-1" strike="noStrike">
                <a:solidFill>
                  <a:srgbClr val="2c8111"/>
                </a:solidFill>
                <a:latin typeface="Technical"/>
              </a:rPr>
              <a:t>	</a:t>
            </a:r>
            <a:r>
              <a:rPr b="1" i="1" lang="en-US" sz="4400" spc="-1" strike="noStrike">
                <a:solidFill>
                  <a:srgbClr val="2c8111"/>
                </a:solidFill>
                <a:latin typeface="Technical"/>
              </a:rPr>
              <a:t>	</a:t>
            </a:r>
            <a:r>
              <a:rPr b="1" lang="en-US" sz="4400" spc="-1" strike="noStrike">
                <a:solidFill>
                  <a:srgbClr val="f4041b"/>
                </a:solidFill>
                <a:latin typeface="Technical"/>
              </a:rPr>
              <a:t>not always be </a:t>
            </a:r>
            <a:r>
              <a:rPr b="1" lang="en-US" sz="4400" spc="-1" strike="noStrike">
                <a:solidFill>
                  <a:srgbClr val="f4041b"/>
                </a:solidFill>
                <a:latin typeface="Technical"/>
              </a:rPr>
              <a:t>	</a:t>
            </a:r>
            <a:r>
              <a:rPr b="1" lang="en-US" sz="4400" spc="-1" strike="noStrike">
                <a:solidFill>
                  <a:srgbClr val="f4041b"/>
                </a:solidFill>
                <a:latin typeface="Technical"/>
              </a:rPr>
              <a:t>	</a:t>
            </a:r>
            <a:r>
              <a:rPr b="1" lang="en-US" sz="4400" spc="-1" strike="noStrike">
                <a:solidFill>
                  <a:srgbClr val="f4041b"/>
                </a:solidFill>
                <a:latin typeface="Technical"/>
              </a:rPr>
              <a:t>	</a:t>
            </a:r>
            <a:r>
              <a:rPr b="1" lang="en-US" sz="4400" spc="-1" strike="noStrike">
                <a:solidFill>
                  <a:srgbClr val="f4041b"/>
                </a:solidFill>
                <a:latin typeface="Technical"/>
              </a:rPr>
              <a:t>what it </a:t>
            </a:r>
            <a:r>
              <a:rPr b="1" lang="en-US" sz="4400" spc="-1" strike="noStrike">
                <a:solidFill>
                  <a:srgbClr val="f4041b"/>
                </a:solidFill>
                <a:latin typeface="Technical"/>
              </a:rPr>
              <a:t>	</a:t>
            </a:r>
            <a:r>
              <a:rPr b="1" lang="en-US" sz="4400" spc="-1" strike="noStrike">
                <a:solidFill>
                  <a:srgbClr val="f4041b"/>
                </a:solidFill>
                <a:latin typeface="Technical"/>
              </a:rPr>
              <a:t>appears to be.</a:t>
            </a:r>
            <a:endParaRPr b="1" lang="en-US" sz="44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12834-5A56-4E72-B87E-1C300DA05765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8111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2c8111"/>
                </a:solidFill>
                <a:latin typeface="Tahoma"/>
              </a:rPr>
              <a:t>@</a:t>
            </a:r>
            <a:r>
              <a:rPr b="0" lang="en-US" sz="4400" spc="-1" strike="noStrike">
                <a:solidFill>
                  <a:srgbClr val="2c8111"/>
                </a:solidFill>
                <a:latin typeface="Tahoma"/>
              </a:rPr>
              <a:t> = </a:t>
            </a:r>
            <a:r>
              <a:rPr b="1" lang="en-US" sz="4400" spc="-1" strike="noStrike">
                <a:solidFill>
                  <a:srgbClr val="2c8111"/>
                </a:solidFill>
                <a:latin typeface="Tahoma"/>
              </a:rPr>
              <a:t>DANGER ! </a:t>
            </a: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c8111"/>
                </a:solidFill>
                <a:latin typeface="Technical"/>
              </a:rPr>
              <a:t>web browsers ignore all characters proceeding an </a:t>
            </a:r>
            <a:r>
              <a:rPr b="1" lang="en-US" sz="4800" spc="-1" strike="noStrike">
                <a:solidFill>
                  <a:srgbClr val="2c8111"/>
                </a:solidFill>
                <a:latin typeface="Tahoma"/>
              </a:rPr>
              <a:t>@</a:t>
            </a:r>
            <a:r>
              <a:rPr b="1" lang="en-US" sz="4800" spc="-1" strike="noStrike">
                <a:solidFill>
                  <a:srgbClr val="2c8111"/>
                </a:solidFill>
                <a:latin typeface="Technical"/>
              </a:rPr>
              <a:t> in an address.</a:t>
            </a:r>
            <a:endParaRPr b="1" lang="en-US" sz="48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95E3C-9F9F-4DEA-B21A-52F8A6FE104D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8111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2c8111"/>
                </a:solidFill>
                <a:latin typeface="Tahoma"/>
              </a:rPr>
              <a:t>~</a:t>
            </a:r>
            <a:r>
              <a:rPr b="1" lang="en-US" sz="4400" spc="-1" strike="noStrike">
                <a:solidFill>
                  <a:srgbClr val="2c8111"/>
                </a:solidFill>
                <a:latin typeface="Tahoma"/>
              </a:rPr>
              <a:t> = Personal  </a:t>
            </a: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	</a:t>
            </a: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Addresses with a </a:t>
            </a:r>
            <a:r>
              <a:rPr b="1" lang="en-US" sz="3600" spc="-1" strike="noStrike">
                <a:solidFill>
                  <a:srgbClr val="2c8111"/>
                </a:solidFill>
                <a:latin typeface="Tahoma"/>
              </a:rPr>
              <a:t>~</a:t>
            </a: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 (tilde) usually indicate that it is a privately maintained page even if the address denotes a larger institution (.com corporation, .edu university or .gov government) and thus usually contain personal opinions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0A22B-49A8-4E32-BAE6-8FFF80B13A66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8111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2c8111"/>
                </a:solidFill>
                <a:latin typeface="Tahoma"/>
              </a:rPr>
              <a:t># = Named Anchors </a:t>
            </a: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 </a:t>
            </a: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allow the page designer to direct you to specific spots within a page.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E5607-40CD-40E3-8AF7-3AEDDA49F28D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8111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2c8111"/>
                </a:solidFill>
                <a:latin typeface="Tahoma"/>
              </a:rPr>
              <a:t>Fake/Scam Sites </a:t>
            </a: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8111"/>
                </a:solidFill>
                <a:latin typeface="Technical"/>
              </a:rPr>
              <a:t>Scam</a:t>
            </a:r>
            <a:r>
              <a:rPr b="1" lang="en-US" sz="2400" spc="-1" strike="noStrike">
                <a:solidFill>
                  <a:srgbClr val="2c8111"/>
                </a:solidFill>
                <a:latin typeface="Arial Unicode MS"/>
              </a:rPr>
              <a:t> site -- http://www.mcwhortle.com/ and explanation site http://www.sec.gov/news/headlines/scamsites.htm </a:t>
            </a:r>
            <a:endParaRPr b="1" lang="en-US" sz="2400" spc="-1" strike="noStrike">
              <a:solidFill>
                <a:srgbClr val="2c8111"/>
              </a:solidFill>
              <a:latin typeface="Technic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2c8111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8111"/>
                </a:solidFill>
                <a:latin typeface="Arial Unicode MS"/>
              </a:rPr>
              <a:t>http://www.newulm.k12.mn.us/inet.eval/fakes.htm lists a number of links to fake sites including this classic http://www.dhmo.org/</a:t>
            </a:r>
            <a:endParaRPr b="1" lang="en-US" sz="2400" spc="-1" strike="noStrike">
              <a:solidFill>
                <a:srgbClr val="2c8111"/>
              </a:solidFill>
              <a:latin typeface="Technic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2c8111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8111"/>
                </a:solidFill>
                <a:latin typeface="Arial Unicode MS"/>
              </a:rPr>
              <a:t> </a:t>
            </a:r>
            <a:r>
              <a:rPr b="1" lang="en-US" sz="2400" spc="-1" strike="noStrike">
                <a:solidFill>
                  <a:srgbClr val="2c8111"/>
                </a:solidFill>
                <a:latin typeface="Arial Unicode MS"/>
              </a:rPr>
              <a:t>http://www.bigredhair.com/boilerplate/ This is from scam busters.org </a:t>
            </a:r>
            <a:endParaRPr b="1" lang="en-US" sz="2400" spc="-1" strike="noStrike">
              <a:solidFill>
                <a:srgbClr val="2c8111"/>
              </a:solidFill>
              <a:latin typeface="Technic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2c8111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8111"/>
                </a:solidFill>
                <a:latin typeface="Arial Unicode MS"/>
              </a:rPr>
              <a:t>This is for NPR show On the Media http://www.wnyc.org/onthemedia/transcripts/transcripts_122002_fake.html</a:t>
            </a:r>
            <a:r>
              <a:rPr b="1" lang="en-US" sz="2400" spc="-1" strike="noStrike">
                <a:solidFill>
                  <a:srgbClr val="2c8111"/>
                </a:solidFill>
                <a:latin typeface="Technical"/>
              </a:rPr>
              <a:t> </a:t>
            </a:r>
            <a:endParaRPr b="1" lang="en-US" sz="24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BD51A-B8D7-4A4C-B643-7F4B052D152B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8111"/>
                </a:solidFill>
                <a:latin typeface="Tahoma"/>
              </a:rPr>
              <a:t>URLs (continued)</a:t>
            </a:r>
            <a:r>
              <a:rPr b="0" lang="en-US" sz="4400" spc="-1" strike="noStrike">
                <a:solidFill>
                  <a:srgbClr val="2c8111"/>
                </a:solidFill>
                <a:latin typeface="Tahoma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2c8111"/>
                </a:solidFill>
                <a:latin typeface="Tahoma"/>
              </a:rPr>
              <a:t>Recursive Searching (RS)</a:t>
            </a: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From </a:t>
            </a:r>
            <a:r>
              <a:rPr b="1" i="1" lang="en-US" sz="3600" spc="-1" strike="noStrike" u="sng">
                <a:solidFill>
                  <a:srgbClr val="2c8111"/>
                </a:solidFill>
                <a:uFillTx/>
                <a:latin typeface="Times New Roman"/>
              </a:rPr>
              <a:t>Webster’s</a:t>
            </a: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 definition of recursion "…the determination of a succession of elements… by operation on one or more preceding elements…" 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E91D1-2BEF-4A0F-8EA1-F19EA63EB2A1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8111"/>
                </a:solidFill>
                <a:latin typeface="Tahoma"/>
              </a:rPr>
              <a:t>Technique of RS Involves </a:t>
            </a: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8111"/>
                </a:solidFill>
                <a:latin typeface="Technical"/>
              </a:rPr>
              <a:t> </a:t>
            </a:r>
            <a:r>
              <a:rPr b="1" lang="en-US" sz="3200" spc="-1" strike="noStrike">
                <a:solidFill>
                  <a:srgbClr val="2c8111"/>
                </a:solidFill>
                <a:latin typeface="Technical"/>
              </a:rPr>
              <a:t>using information you have already found</a:t>
            </a:r>
            <a:endParaRPr b="1" lang="en-US" sz="3200" spc="-1" strike="noStrike">
              <a:solidFill>
                <a:srgbClr val="2c8111"/>
              </a:solidFill>
              <a:latin typeface="Technical"/>
            </a:endParaRPr>
          </a:p>
          <a:p>
            <a:pPr marL="315360" indent="-315360">
              <a:spcBef>
                <a:spcPts val="799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8111"/>
                </a:solidFill>
                <a:latin typeface="Technical"/>
              </a:rPr>
              <a:t> </a:t>
            </a:r>
            <a:r>
              <a:rPr b="1" lang="en-US" sz="3200" spc="-1" strike="noStrike">
                <a:solidFill>
                  <a:srgbClr val="2c8111"/>
                </a:solidFill>
                <a:latin typeface="Technical"/>
              </a:rPr>
              <a:t>a bit of guessing </a:t>
            </a:r>
            <a:endParaRPr b="1" lang="en-US" sz="3200" spc="-1" strike="noStrike">
              <a:solidFill>
                <a:srgbClr val="2c8111"/>
              </a:solidFill>
              <a:latin typeface="Technical"/>
            </a:endParaRPr>
          </a:p>
          <a:p>
            <a:pPr marL="315360" indent="-315360">
              <a:spcBef>
                <a:spcPts val="799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8111"/>
                </a:solidFill>
                <a:latin typeface="Technical"/>
              </a:rPr>
              <a:t> </a:t>
            </a:r>
            <a:r>
              <a:rPr b="1" lang="en-US" sz="3200" spc="-1" strike="noStrike">
                <a:solidFill>
                  <a:srgbClr val="2c8111"/>
                </a:solidFill>
                <a:latin typeface="Technical"/>
              </a:rPr>
              <a:t>a little knowledge of directory structure</a:t>
            </a:r>
            <a:endParaRPr b="1" lang="en-US" sz="3200" spc="-1" strike="noStrike">
              <a:solidFill>
                <a:srgbClr val="2c8111"/>
              </a:solidFill>
              <a:latin typeface="Technical"/>
            </a:endParaRPr>
          </a:p>
          <a:p>
            <a:pPr marL="315360" indent="-315360">
              <a:spcBef>
                <a:spcPts val="799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8111"/>
                </a:solidFill>
                <a:latin typeface="Technical"/>
              </a:rPr>
              <a:t> </a:t>
            </a:r>
            <a:r>
              <a:rPr b="1" lang="en-US" sz="3200" spc="-1" strike="noStrike">
                <a:solidFill>
                  <a:srgbClr val="2c8111"/>
                </a:solidFill>
                <a:latin typeface="Technical"/>
              </a:rPr>
              <a:t>observations of the habits of web designers/authors</a:t>
            </a:r>
            <a:endParaRPr b="1" lang="en-US" sz="3200" spc="-1" strike="noStrike">
              <a:solidFill>
                <a:srgbClr val="2c8111"/>
              </a:solidFill>
              <a:latin typeface="Technical"/>
            </a:endParaRPr>
          </a:p>
          <a:p>
            <a:pPr marL="315360" indent="-315360">
              <a:spcBef>
                <a:spcPts val="799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8111"/>
                </a:solidFill>
                <a:latin typeface="Technical"/>
              </a:rPr>
              <a:t> </a:t>
            </a:r>
            <a:r>
              <a:rPr b="1" lang="en-US" sz="3200" spc="-1" strike="noStrike">
                <a:solidFill>
                  <a:srgbClr val="2c8111"/>
                </a:solidFill>
                <a:latin typeface="Technical"/>
              </a:rPr>
              <a:t>time to try a variety of possibilities</a:t>
            </a:r>
            <a:endParaRPr b="1" lang="en-US" sz="32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67848-4AD7-4811-9BB8-8AF83FACF084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8111"/>
                </a:solidFill>
                <a:latin typeface="Tahoma"/>
              </a:rPr>
              <a:t>Recursive Searching (RS)</a:t>
            </a: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Allows you to find related pages, more info from the same source or different formats of the same document.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8F903-CA25-4A52-AD54-2ED70988A886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8111"/>
                </a:solidFill>
                <a:latin typeface="Tahoma"/>
              </a:rPr>
              <a:t>Six Questions </a:t>
            </a:r>
            <a:r>
              <a:rPr b="0" lang="en-US" sz="5400" spc="-1" strike="noStrike">
                <a:solidFill>
                  <a:srgbClr val="fd2929"/>
                </a:solidFill>
                <a:latin typeface="Tahoma"/>
              </a:rPr>
              <a:t>WWHWWW</a:t>
            </a:r>
            <a:endParaRPr b="1" lang="en-US" sz="5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1523880"/>
            <a:ext cx="7315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c8111"/>
              </a:solidFill>
              <a:latin typeface="Technical"/>
            </a:endParaRPr>
          </a:p>
          <a:p>
            <a:pPr marL="68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420e"/>
                </a:solidFill>
                <a:latin typeface="Tahoma"/>
              </a:rPr>
              <a:t>What</a:t>
            </a:r>
            <a:r>
              <a:rPr b="1" lang="en-US" sz="3200" spc="-1" strike="noStrike">
                <a:solidFill>
                  <a:srgbClr val="2c8111"/>
                </a:solidFill>
                <a:latin typeface="Technical"/>
              </a:rPr>
              <a:t> Do You Want to Know ?</a:t>
            </a:r>
            <a:endParaRPr b="1" lang="en-US" sz="3200" spc="-1" strike="noStrike">
              <a:solidFill>
                <a:srgbClr val="2c8111"/>
              </a:solidFill>
              <a:latin typeface="Technical"/>
            </a:endParaRPr>
          </a:p>
          <a:p>
            <a:pPr marL="68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420e"/>
                </a:solidFill>
                <a:latin typeface="Tahoma"/>
              </a:rPr>
              <a:t>Where</a:t>
            </a:r>
            <a:r>
              <a:rPr b="1" lang="en-US" sz="3200" spc="-1" strike="noStrike">
                <a:solidFill>
                  <a:srgbClr val="2c8111"/>
                </a:solidFill>
                <a:latin typeface="Technical"/>
              </a:rPr>
              <a:t> Can You Find It ?</a:t>
            </a:r>
            <a:endParaRPr b="1" lang="en-US" sz="3200" spc="-1" strike="noStrike">
              <a:solidFill>
                <a:srgbClr val="2c8111"/>
              </a:solidFill>
              <a:latin typeface="Technical"/>
            </a:endParaRPr>
          </a:p>
          <a:p>
            <a:pPr marL="68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420e"/>
                </a:solidFill>
                <a:latin typeface="Tahoma"/>
              </a:rPr>
              <a:t>How</a:t>
            </a:r>
            <a:r>
              <a:rPr b="1" lang="en-US" sz="3200" spc="-1" strike="noStrike">
                <a:solidFill>
                  <a:srgbClr val="2c8111"/>
                </a:solidFill>
                <a:latin typeface="Technical"/>
              </a:rPr>
              <a:t> To Search for It ?</a:t>
            </a:r>
            <a:endParaRPr b="1" lang="en-US" sz="3200" spc="-1" strike="noStrike">
              <a:solidFill>
                <a:srgbClr val="2c8111"/>
              </a:solidFill>
              <a:latin typeface="Technical"/>
            </a:endParaRPr>
          </a:p>
          <a:p>
            <a:pPr marL="68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420e"/>
                </a:solidFill>
                <a:latin typeface="Tahoma"/>
              </a:rPr>
              <a:t>When</a:t>
            </a:r>
            <a:r>
              <a:rPr b="1" lang="en-US" sz="3200" spc="-1" strike="noStrike">
                <a:solidFill>
                  <a:srgbClr val="2c8111"/>
                </a:solidFill>
                <a:latin typeface="Technical"/>
              </a:rPr>
              <a:t> Was It Written/Updated ?</a:t>
            </a:r>
            <a:endParaRPr b="1" lang="en-US" sz="3200" spc="-1" strike="noStrike">
              <a:solidFill>
                <a:srgbClr val="2c8111"/>
              </a:solidFill>
              <a:latin typeface="Technical"/>
            </a:endParaRPr>
          </a:p>
          <a:p>
            <a:pPr marL="68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420e"/>
                </a:solidFill>
                <a:latin typeface="Tahoma"/>
              </a:rPr>
              <a:t>Who</a:t>
            </a:r>
            <a:r>
              <a:rPr b="1" lang="en-US" sz="3200" spc="-1" strike="noStrike">
                <a:solidFill>
                  <a:srgbClr val="2c8111"/>
                </a:solidFill>
                <a:latin typeface="Technical"/>
              </a:rPr>
              <a:t> </a:t>
            </a:r>
            <a:r>
              <a:rPr b="1" lang="en-US" sz="2800" spc="-1" strike="noStrike">
                <a:solidFill>
                  <a:srgbClr val="2c8111"/>
                </a:solidFill>
                <a:latin typeface="Technical"/>
              </a:rPr>
              <a:t>Created It &amp; Who Wants You to See  It ?</a:t>
            </a:r>
            <a:endParaRPr b="1" lang="en-US" sz="2800" spc="-1" strike="noStrike">
              <a:solidFill>
                <a:srgbClr val="2c8111"/>
              </a:solidFill>
              <a:latin typeface="Technical"/>
            </a:endParaRPr>
          </a:p>
          <a:p>
            <a:pPr marL="68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420e"/>
                </a:solidFill>
                <a:latin typeface="Tahoma"/>
              </a:rPr>
              <a:t>Why</a:t>
            </a:r>
            <a:r>
              <a:rPr b="1" lang="en-US" sz="3200" spc="-1" strike="noStrike">
                <a:solidFill>
                  <a:srgbClr val="2c8111"/>
                </a:solidFill>
                <a:latin typeface="Technical"/>
              </a:rPr>
              <a:t> Do They Want You To See It ?</a:t>
            </a:r>
            <a:endParaRPr b="1" lang="en-US" sz="32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D952B-1413-45EC-9771-301D8AC91A14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8111"/>
                </a:solidFill>
                <a:latin typeface="Tahoma"/>
              </a:rPr>
              <a:t>(RS) Climbing the Tree</a:t>
            </a: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"Climbing the Tree" allows you to maneuver through a web site to other pages that might be relevant. Climb up by removing sections of the address from the right of "/ ". Climb down by adding or changing characters to the right.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E001F-6E75-47A5-B7F9-FC247F9F3AFD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8111"/>
                </a:solidFill>
                <a:latin typeface="Tahoma"/>
              </a:rPr>
              <a:t>(RS) Changing Endings</a:t>
            </a: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Changing endings of URL (.pdf, .html, .doc) can often provide the same information in a different document format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  <a:p>
            <a:pPr marL="322200" indent="-32220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Substituting characters that match pattern (I.e. /list2003.html in place of /list2002.html)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91316-506B-4F81-BDD2-06AA208E9386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8111"/>
                </a:solidFill>
                <a:latin typeface="Tahoma"/>
              </a:rPr>
              <a:t>(RS) Once You </a:t>
            </a:r>
            <a:br>
              <a:rPr sz="4400"/>
            </a:br>
            <a:r>
              <a:rPr b="1" lang="en-US" sz="4400" spc="-1" strike="noStrike">
                <a:solidFill>
                  <a:srgbClr val="2c8111"/>
                </a:solidFill>
                <a:latin typeface="Tahoma"/>
              </a:rPr>
              <a:t>Find A Page…</a:t>
            </a: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Using portions of found URL in your repeat search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Use </a:t>
            </a:r>
            <a:r>
              <a:rPr b="1" lang="en-US" sz="3600" spc="-1" strike="noStrike">
                <a:solidFill>
                  <a:srgbClr val="2c8111"/>
                </a:solidFill>
                <a:latin typeface="Tahoma"/>
              </a:rPr>
              <a:t>Ctrl-F</a:t>
            </a: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 to find word(s) within the page you are currently viewing (</a:t>
            </a:r>
            <a:r>
              <a:rPr b="1" lang="en-US" sz="3600" spc="-1" strike="noStrike">
                <a:solidFill>
                  <a:srgbClr val="2c8111"/>
                </a:solidFill>
                <a:latin typeface="Tahoma"/>
              </a:rPr>
              <a:t>Ctrl-G</a:t>
            </a: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 to repeat)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Utilize built-in searching tools and site maps to find information within web sites.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E1DC9-1C12-481E-9874-AB4F9CA7C28F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8111"/>
                </a:solidFill>
                <a:latin typeface="Tahoma"/>
              </a:rPr>
              <a:t>(RS) Using the Experts</a:t>
            </a: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Find an authoritative site on a subject (national organization, trade group, governmental entity, etc.) 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  <a:p>
            <a:pPr marL="308520" indent="-30852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then use information, links, indexes, keywords, etc. within their site to find more information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00253-7FE1-4EA8-AF58-82503EE3B30D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8111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2c8111"/>
                </a:solidFill>
                <a:latin typeface="Tahoma"/>
              </a:rPr>
              <a:t>Indexes &amp; Databases (I&amp;D) </a:t>
            </a: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Many items are not found by SE because they are contained in dynamic or sequestered web pages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263DF-E41E-4903-AC85-A3C504BA7E4E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8111"/>
                </a:solidFill>
                <a:latin typeface="Tahoma"/>
              </a:rPr>
              <a:t>Dynamic pages</a:t>
            </a: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Dynamic pages are created on the fly from a database (php, asp, sql, etc.) of information when the user specifies criteria (i.e. AnyWho.com)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7C72D-0C6C-47D9-BE26-ABBF33A2CB3A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8111"/>
                </a:solidFill>
                <a:latin typeface="Tahoma"/>
              </a:rPr>
              <a:t>Sequestered pages--</a:t>
            </a: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Behind a firewall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  <a:p>
            <a:pPr marL="343080" indent="-34308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Require password access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  <a:p>
            <a:pPr marL="343080" indent="-34308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HTML coding in a page causes search robots &amp; spiders to ignore pages on that site (robots.txt)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A29E8-DDF3-447C-9D8B-38DD32E5739A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8111"/>
                </a:solidFill>
                <a:latin typeface="Tahoma"/>
              </a:rPr>
              <a:t>Indexes &amp; Databases (I&amp;D)</a:t>
            </a: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I &amp; D- often have more human involvement in compiling, maintaining, sorting and annotating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  <a:p>
            <a:pPr marL="291600" indent="-291600">
              <a:lnSpc>
                <a:spcPct val="90000"/>
              </a:lnSpc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I &amp; D- some sites may require a subscription, registration and/or user fee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  <a:p>
            <a:pPr marL="291600" indent="-291600">
              <a:lnSpc>
                <a:spcPct val="90000"/>
              </a:lnSpc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Examples include LEXIS/NEXIS, SIRS and NARA (National Archives &amp; Records Administration.)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027D7-09C3-4FF2-96F4-7BE2A5414481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8111"/>
                </a:solidFill>
                <a:latin typeface="Tahoma"/>
              </a:rPr>
              <a:t>Finding Indexes &amp; Databases</a:t>
            </a: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Your friendly local librarian, always a great resource when searching for information, can point you to quality online I &amp; Ds.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2F524-AC8B-4D8F-AB97-262C078753F5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8111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2c8111"/>
                </a:solidFill>
                <a:latin typeface="Tahoma"/>
              </a:rPr>
              <a:t>Current? </a:t>
            </a: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When was the page created/modified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  <a:p>
            <a:pPr marL="308520" indent="-308520">
              <a:lnSpc>
                <a:spcPct val="100000"/>
              </a:lnSpc>
              <a:spcBef>
                <a:spcPts val="901"/>
              </a:spcBef>
              <a:buClr>
                <a:srgbClr val="2c811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ahoma"/>
              </a:rPr>
              <a:t>Ctrl-I</a:t>
            </a: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 provides information on the page being viewed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  <a:p>
            <a:pPr marL="308520" indent="-30852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Many SE allow you to specify limiting dates for search results from their advanced search pages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1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2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73624-D8F5-4B7F-897D-867DD03C720D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52280" y="152280"/>
          <a:ext cx="8991720" cy="6707160"/>
        </p:xfrm>
        <a:graphic>
          <a:graphicData uri="http://schemas.openxmlformats.org/drawingml/2006/table">
            <a:tbl>
              <a:tblPr/>
              <a:tblGrid>
                <a:gridCol w="4343400"/>
                <a:gridCol w="4648320"/>
              </a:tblGrid>
              <a:tr h="354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 A W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echnical"/>
                          <a:ea typeface="Times New Roman"/>
                        </a:rPr>
                        <a:t>-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echnical"/>
                          <a:ea typeface="Times New Roman"/>
                        </a:rPr>
                        <a:t>Select Search Engin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echnical"/>
                          <a:ea typeface="Times New Roman"/>
                        </a:rPr>
                        <a:t>- Advanced Pag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echnical"/>
                          <a:ea typeface="Times New Roman"/>
                        </a:rPr>
                        <a:t>- Wordin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2f92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 A T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000000"/>
                        </a:buClr>
                        <a:buFont typeface="Technic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echnical"/>
                          <a:ea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echnical"/>
                          <a:ea typeface="Times New Roman"/>
                        </a:rPr>
                        <a:t>Result Pag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echnical"/>
                          <a:ea typeface="Times New Roman"/>
                        </a:rPr>
                        <a:t>- Advertisement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echnical"/>
                          <a:ea typeface="Times New Roman"/>
                        </a:rPr>
                        <a:t>- Trim # of pages foun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d45"/>
                    </a:solidFill>
                  </a:tcPr>
                </a:tc>
              </a:tr>
              <a:tr h="392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Q U I C K,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echnical"/>
                          <a:ea typeface="Times New Roman"/>
                        </a:rPr>
                        <a:t>- Quality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echnical"/>
                          <a:ea typeface="Times New Roman"/>
                        </a:rPr>
                        <a:t>- URL (Address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echnical"/>
                          <a:ea typeface="Times New Roman"/>
                        </a:rPr>
                        <a:t>- Indexes &amp; Databas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echnical"/>
                          <a:ea typeface="Times New Roman"/>
                        </a:rPr>
                        <a:t>- Current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echnical"/>
                          <a:ea typeface="Times New Roman"/>
                        </a:rPr>
                        <a:t>- Know Who &amp; Why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b1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 O !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echnical"/>
                          <a:ea typeface="Times New Roman"/>
                        </a:rPr>
                        <a:t>-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echnical"/>
                          <a:ea typeface="Times New Roman"/>
                        </a:rPr>
                        <a:t>Gleanin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buClr>
                          <a:srgbClr val="000000"/>
                        </a:buClr>
                        <a:buFont typeface="Technic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echnical"/>
                          <a:ea typeface="Times New Roman"/>
                        </a:rPr>
                        <a:t>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echnical"/>
                          <a:ea typeface="Times New Roman"/>
                        </a:rPr>
                        <a:t>Observe Copyright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echnical"/>
                          <a:ea typeface="Times New Roman"/>
                        </a:rPr>
                        <a:t>-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echnical"/>
                          <a:ea typeface="Times New Roman"/>
                        </a:rPr>
                        <a:t>Learn About Search Engi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echnic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2929"/>
                    </a:solidFill>
                  </a:tcPr>
                </a:tc>
              </a:tr>
            </a:tbl>
          </a:graphicData>
        </a:graphic>
      </p:graphicFrame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772400" y="380520"/>
            <a:ext cx="1371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7fd45"/>
                </a:solidFill>
                <a:latin typeface="Tahoma"/>
              </a:rPr>
              <a:t>table</a:t>
            </a:r>
            <a:endParaRPr b="1" lang="en-US" sz="800" spc="-1" strike="noStrike">
              <a:solidFill>
                <a:srgbClr val="2c8111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B5B19-0EAC-4654-A691-B8AE98C32DDF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8111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2c8111"/>
                </a:solidFill>
                <a:latin typeface="Tahoma"/>
              </a:rPr>
              <a:t>Know Who &amp; Why</a:t>
            </a: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8111"/>
                </a:solidFill>
                <a:latin typeface="Technical"/>
              </a:rPr>
              <a:t>Who owns the site and why do they want you to read it?</a:t>
            </a:r>
            <a:endParaRPr b="1" lang="en-US" sz="4000" spc="-1" strike="noStrike">
              <a:solidFill>
                <a:srgbClr val="2c8111"/>
              </a:solidFill>
              <a:latin typeface="Technical"/>
            </a:endParaRPr>
          </a:p>
          <a:p>
            <a:pPr marL="343080" indent="-343080">
              <a:spcBef>
                <a:spcPts val="10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8111"/>
                </a:solidFill>
                <a:latin typeface="Technical"/>
              </a:rPr>
              <a:t>Why is a web page there? Know Who &amp; Why</a:t>
            </a:r>
            <a:endParaRPr b="1" lang="en-US" sz="40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76857-D5B0-4D25-95D2-AE177414846A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8111"/>
                </a:solidFill>
                <a:latin typeface="Tahoma"/>
              </a:rPr>
              <a:t>Why Is That Web Page There?</a:t>
            </a: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c8111"/>
                </a:solidFill>
                <a:latin typeface="Technical"/>
              </a:rPr>
              <a:t>public service, academic, marketing,  propaganda, promotion, publicity, scams, electronic versions of written documents &amp; other media, alternative to traditional publishing, samples of work for sale, “value added” perk of subscriptions to magazines, memberships in professional organizations &amp; clubs, provide supplemental material to accompany audio/video (radio &amp; TV stations), vanity, etc.</a:t>
            </a:r>
            <a:endParaRPr b="1" lang="en-US" sz="30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EC0FB-5C49-4581-B231-36938A8BA5A6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8111"/>
                </a:solidFill>
                <a:latin typeface="Tahoma"/>
              </a:rPr>
              <a:t>What kind of </a:t>
            </a:r>
            <a:br>
              <a:rPr sz="4400"/>
            </a:br>
            <a:r>
              <a:rPr b="1" lang="en-US" sz="4400" spc="-1" strike="noStrike">
                <a:solidFill>
                  <a:srgbClr val="2c8111"/>
                </a:solidFill>
                <a:latin typeface="Tahoma"/>
              </a:rPr>
              <a:t>document is it</a:t>
            </a: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8111"/>
                </a:solidFill>
                <a:latin typeface="Technical"/>
              </a:rPr>
              <a:t>Basis of document</a:t>
            </a:r>
            <a:endParaRPr b="1" lang="en-US" sz="4000" spc="-1" strike="noStrike">
              <a:solidFill>
                <a:srgbClr val="2c8111"/>
              </a:solidFill>
              <a:latin typeface="Technical"/>
            </a:endParaRPr>
          </a:p>
          <a:p>
            <a:pPr marL="343080" indent="-343080">
              <a:spcBef>
                <a:spcPts val="10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8111"/>
                </a:solidFill>
                <a:latin typeface="Technical"/>
              </a:rPr>
              <a:t>Author's credentials</a:t>
            </a:r>
            <a:endParaRPr b="1" lang="en-US" sz="4000" spc="-1" strike="noStrike">
              <a:solidFill>
                <a:srgbClr val="2c8111"/>
              </a:solidFill>
              <a:latin typeface="Technical"/>
            </a:endParaRPr>
          </a:p>
          <a:p>
            <a:pPr marL="343080" indent="-343080">
              <a:spcBef>
                <a:spcPts val="10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8111"/>
                </a:solidFill>
                <a:latin typeface="Technical"/>
              </a:rPr>
              <a:t>References, </a:t>
            </a:r>
            <a:endParaRPr b="1" lang="en-US" sz="4000" spc="-1" strike="noStrike">
              <a:solidFill>
                <a:srgbClr val="2c8111"/>
              </a:solidFill>
              <a:latin typeface="Technical"/>
            </a:endParaRPr>
          </a:p>
          <a:p>
            <a:pPr marL="343080" indent="-343080">
              <a:spcBef>
                <a:spcPts val="10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8111"/>
                </a:solidFill>
                <a:latin typeface="Technical"/>
              </a:rPr>
              <a:t>Citations, etc. </a:t>
            </a:r>
            <a:endParaRPr b="1" lang="en-US" sz="40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89508-DE82-4002-835E-1971826FE1A0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8111"/>
                </a:solidFill>
                <a:latin typeface="Tahoma"/>
              </a:rPr>
              <a:t>Hierarchy of Reliability</a:t>
            </a: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8111"/>
                </a:solidFill>
                <a:latin typeface="Technical"/>
              </a:rPr>
              <a:t>as measured by-- </a:t>
            </a:r>
            <a:endParaRPr b="1" lang="en-US" sz="4000" spc="-1" strike="noStrike">
              <a:solidFill>
                <a:srgbClr val="2c8111"/>
              </a:solidFill>
              <a:latin typeface="Technical"/>
            </a:endParaRPr>
          </a:p>
          <a:p>
            <a:pPr lvl="1" marL="743040" indent="-285840">
              <a:spcBef>
                <a:spcPts val="1001"/>
              </a:spcBef>
              <a:buClr>
                <a:srgbClr val="2c8111"/>
              </a:buClr>
              <a:buFont typeface="Technic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8111"/>
                </a:solidFill>
                <a:latin typeface="Technical"/>
              </a:rPr>
              <a:t>Ownership </a:t>
            </a:r>
            <a:endParaRPr b="1" lang="en-US" sz="4000" spc="-1" strike="noStrike">
              <a:solidFill>
                <a:srgbClr val="2c8111"/>
              </a:solidFill>
              <a:latin typeface="Technical"/>
            </a:endParaRPr>
          </a:p>
          <a:p>
            <a:pPr lvl="1" marL="743040" indent="-285840">
              <a:spcBef>
                <a:spcPts val="1001"/>
              </a:spcBef>
              <a:buClr>
                <a:srgbClr val="2c8111"/>
              </a:buClr>
              <a:buFont typeface="Technic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8111"/>
                </a:solidFill>
                <a:latin typeface="Technical"/>
              </a:rPr>
              <a:t>Author</a:t>
            </a:r>
            <a:endParaRPr b="1" lang="en-US" sz="4000" spc="-1" strike="noStrike">
              <a:solidFill>
                <a:srgbClr val="2c8111"/>
              </a:solidFill>
              <a:latin typeface="Technical"/>
            </a:endParaRPr>
          </a:p>
          <a:p>
            <a:pPr lvl="1" marL="743040" indent="-285840">
              <a:spcBef>
                <a:spcPts val="1001"/>
              </a:spcBef>
              <a:buClr>
                <a:srgbClr val="2c8111"/>
              </a:buClr>
              <a:buFont typeface="Technic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8111"/>
                </a:solidFill>
                <a:latin typeface="Technical"/>
              </a:rPr>
              <a:t>Type of Document</a:t>
            </a:r>
            <a:endParaRPr b="1" lang="en-US" sz="4000" spc="-1" strike="noStrike">
              <a:solidFill>
                <a:srgbClr val="2c8111"/>
              </a:solidFill>
              <a:latin typeface="Technical"/>
            </a:endParaRPr>
          </a:p>
          <a:p>
            <a:pPr lvl="1" marL="743040" indent="-285840">
              <a:spcBef>
                <a:spcPts val="1001"/>
              </a:spcBef>
              <a:buClr>
                <a:srgbClr val="2c8111"/>
              </a:buClr>
              <a:buFont typeface="Technic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8111"/>
                </a:solidFill>
                <a:latin typeface="Technical"/>
              </a:rPr>
              <a:t>Other</a:t>
            </a:r>
            <a:endParaRPr b="1" lang="en-US" sz="40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6371-F3E1-45E3-949E-63DA17D04487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8111"/>
                </a:solidFill>
                <a:latin typeface="Tahoma"/>
              </a:rPr>
              <a:t>Finding the owner of site/page</a:t>
            </a: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8111"/>
                </a:solidFill>
                <a:latin typeface="Technical"/>
              </a:rPr>
              <a:t>Read the URL for clues</a:t>
            </a:r>
            <a:endParaRPr b="1" lang="en-US" sz="4000" spc="-1" strike="noStrike">
              <a:solidFill>
                <a:srgbClr val="2c8111"/>
              </a:solidFill>
              <a:latin typeface="Technical"/>
            </a:endParaRPr>
          </a:p>
          <a:p>
            <a:pPr marL="335880" indent="-33588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8111"/>
                </a:solidFill>
                <a:latin typeface="Technical"/>
              </a:rPr>
              <a:t>Which sites link to the site? Using altavista.com type--</a:t>
            </a: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 </a:t>
            </a:r>
            <a:r>
              <a:rPr b="1" lang="en-US" sz="3600" spc="-1" strike="noStrike">
                <a:solidFill>
                  <a:srgbClr val="8b357f"/>
                </a:solidFill>
                <a:latin typeface="Andale Mono"/>
              </a:rPr>
              <a:t>link:http://www.xyz.com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  <a:p>
            <a:pPr marL="335880" indent="-335880">
              <a:spcBef>
                <a:spcPts val="10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8111"/>
                </a:solidFill>
                <a:latin typeface="Technical"/>
              </a:rPr>
              <a:t>Who owns the URL- "whois" search at </a:t>
            </a:r>
            <a:r>
              <a:rPr b="1" lang="en-US" sz="4000" spc="-1" strike="noStrike" u="sng">
                <a:solidFill>
                  <a:srgbClr val="2c8111"/>
                </a:solidFill>
                <a:uFillTx/>
                <a:latin typeface="Technical"/>
              </a:rPr>
              <a:t>Network Solutions</a:t>
            </a:r>
            <a:endParaRPr b="1" lang="en-US" sz="40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D97E-F018-465E-B84B-D731EA50D406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c8111"/>
                </a:solidFill>
                <a:latin typeface="Tahoma"/>
              </a:rPr>
              <a:t>Gleaning</a:t>
            </a:r>
            <a:r>
              <a:rPr b="0" lang="en-US" sz="4800" spc="-1" strike="noStrike">
                <a:solidFill>
                  <a:srgbClr val="2c8111"/>
                </a:solidFill>
                <a:latin typeface="Tahoma"/>
              </a:rPr>
              <a:t>-</a:t>
            </a:r>
            <a:r>
              <a:rPr b="0" lang="en-US" sz="4400" spc="-1" strike="noStrike">
                <a:solidFill>
                  <a:srgbClr val="2c8111"/>
                </a:solidFill>
                <a:latin typeface="Technical"/>
              </a:rPr>
              <a:t> </a:t>
            </a: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8111"/>
                </a:solidFill>
                <a:latin typeface="Technical"/>
              </a:rPr>
              <a:t>Techniques for gathering only the specific material (text and/or graphics) you need from a web page</a:t>
            </a:r>
            <a:endParaRPr b="1" lang="en-US" sz="40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A4A68-B1F3-4E12-AB90-3DE0ACBAAAA9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8111"/>
                </a:solidFill>
                <a:latin typeface="Tahoma"/>
              </a:rPr>
              <a:t>Gleaning Warning-</a:t>
            </a:r>
            <a:r>
              <a:rPr b="0" lang="en-US" sz="4400" spc="-1" strike="noStrike">
                <a:solidFill>
                  <a:srgbClr val="2c8111"/>
                </a:solidFill>
                <a:latin typeface="Technical"/>
              </a:rPr>
              <a:t> </a:t>
            </a: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Warning- Indiscriminate or improper use of the following techniques could result in violations of Copyright Laws and/or Plagiarism! The author does  not condone either activity!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0922F-25BE-408E-BBEF-DA25181805D0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c8111"/>
                </a:solidFill>
                <a:latin typeface="Tahoma"/>
              </a:rPr>
              <a:t>Gleaning (Printing)</a:t>
            </a:r>
            <a:endParaRPr b="1" lang="en-US" sz="48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Print Preview, then print only desired pages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  <a:p>
            <a:pPr marL="343080" indent="-34308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Print Screen then paste into image editing software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DAD10-0D44-4D82-887A-03446EF6D3C5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c8111"/>
                </a:solidFill>
                <a:latin typeface="Tahoma"/>
              </a:rPr>
              <a:t>Gleaning (Saving)</a:t>
            </a:r>
            <a:endParaRPr b="1" lang="en-US" sz="48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8111"/>
                </a:solidFill>
                <a:latin typeface="Technical"/>
              </a:rPr>
              <a:t>Bookmarks/Favorites- </a:t>
            </a:r>
            <a:r>
              <a:rPr b="1" lang="en-US" sz="3200" spc="-1" strike="noStrike">
                <a:solidFill>
                  <a:srgbClr val="2c8111"/>
                </a:solidFill>
                <a:latin typeface="Technical"/>
              </a:rPr>
              <a:t>	</a:t>
            </a:r>
            <a:r>
              <a:rPr b="1" lang="en-US" sz="3200" spc="-1" strike="noStrike">
                <a:solidFill>
                  <a:srgbClr val="2c8111"/>
                </a:solidFill>
                <a:latin typeface="Technical"/>
              </a:rPr>
              <a:t>Sometimes the best way to save information from a web site is to save a link to that page. For info on Pros &amp; Cons of Bookmarks vs. Gleaning-</a:t>
            </a:r>
            <a:r>
              <a:rPr b="1" lang="en-US" sz="3200" spc="-1" strike="noStrike">
                <a:solidFill>
                  <a:srgbClr val="2c8111"/>
                </a:solidFill>
                <a:latin typeface="Technical"/>
              </a:rPr>
              <a:t>	</a:t>
            </a:r>
            <a:r>
              <a:rPr b="1" lang="en-US" sz="3200" spc="-1" strike="noStrike">
                <a:solidFill>
                  <a:srgbClr val="2c8111"/>
                </a:solidFill>
                <a:latin typeface="Technical"/>
              </a:rPr>
              <a:t>	</a:t>
            </a:r>
            <a:r>
              <a:rPr b="1" lang="en-US" sz="3200" spc="-1" strike="noStrike">
                <a:solidFill>
                  <a:srgbClr val="2c8111"/>
                </a:solidFill>
                <a:latin typeface="Technical"/>
              </a:rPr>
              <a:t> </a:t>
            </a:r>
            <a:r>
              <a:rPr b="0" lang="en-US" sz="3200" spc="-1" strike="noStrike">
                <a:solidFill>
                  <a:srgbClr val="8b357f"/>
                </a:solidFill>
                <a:latin typeface="Andale Mono"/>
              </a:rPr>
              <a:t>http://www.mogadore.summit. k12.oh.us/library/gleaning. html#book</a:t>
            </a:r>
            <a:r>
              <a:rPr b="0" lang="en-US" sz="3200" spc="-1" strike="noStrike">
                <a:solidFill>
                  <a:srgbClr val="2c8111"/>
                </a:solidFill>
                <a:latin typeface="Andale Mono"/>
              </a:rPr>
              <a:t> </a:t>
            </a:r>
            <a:r>
              <a:rPr b="0" lang="en-US" sz="3200" spc="-1" strike="noStrike">
                <a:solidFill>
                  <a:srgbClr val="2c8111"/>
                </a:solidFill>
                <a:latin typeface="Andale Mono"/>
              </a:rPr>
              <a:t>	</a:t>
            </a:r>
            <a:r>
              <a:rPr b="0" lang="en-US" sz="3200" spc="-1" strike="noStrike">
                <a:solidFill>
                  <a:srgbClr val="2c8111"/>
                </a:solidFill>
                <a:latin typeface="Andale Mono"/>
              </a:rPr>
              <a:t>	</a:t>
            </a:r>
            <a:r>
              <a:rPr b="0" lang="en-US" sz="3200" spc="-1" strike="noStrike">
                <a:solidFill>
                  <a:srgbClr val="2c8111"/>
                </a:solidFill>
                <a:latin typeface="Andale Mono"/>
              </a:rPr>
              <a:t>	</a:t>
            </a:r>
            <a:endParaRPr b="1" lang="en-US" sz="32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341E7-A7E8-4F66-B445-0D6D2BA48539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c8111"/>
                </a:solidFill>
                <a:latin typeface="Tahoma"/>
              </a:rPr>
              <a:t>Gleaning (Saving)</a:t>
            </a:r>
            <a:endParaRPr b="1" lang="en-US" sz="48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8111"/>
                </a:solidFill>
                <a:latin typeface="Technical"/>
              </a:rPr>
              <a:t>Save Image- right click mouse on image, menu appears, choose "save image as"</a:t>
            </a:r>
            <a:endParaRPr b="1" lang="en-US" sz="3200" spc="-1" strike="noStrike">
              <a:solidFill>
                <a:srgbClr val="2c8111"/>
              </a:solidFill>
              <a:latin typeface="Technical"/>
            </a:endParaRPr>
          </a:p>
          <a:p>
            <a:pPr marL="325800" indent="-325800">
              <a:spcBef>
                <a:spcPts val="799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8111"/>
                </a:solidFill>
                <a:latin typeface="Technical"/>
              </a:rPr>
              <a:t>Save an entire page or site</a:t>
            </a:r>
            <a:endParaRPr b="1" lang="en-US" sz="3200" spc="-1" strike="noStrike">
              <a:solidFill>
                <a:srgbClr val="2c8111"/>
              </a:solidFill>
              <a:latin typeface="Technical"/>
            </a:endParaRPr>
          </a:p>
          <a:p>
            <a:pPr marL="325800" indent="-325800">
              <a:spcBef>
                <a:spcPts val="799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8111"/>
                </a:solidFill>
                <a:latin typeface="Technical"/>
              </a:rPr>
              <a:t>"Save as" function in Internet Explorer</a:t>
            </a:r>
            <a:endParaRPr b="1" lang="en-US" sz="3200" spc="-1" strike="noStrike">
              <a:solidFill>
                <a:srgbClr val="2c8111"/>
              </a:solidFill>
              <a:latin typeface="Technical"/>
            </a:endParaRPr>
          </a:p>
          <a:p>
            <a:pPr marL="325800" indent="-325800">
              <a:spcBef>
                <a:spcPts val="799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8111"/>
                </a:solidFill>
                <a:latin typeface="Technical"/>
              </a:rPr>
              <a:t>Open a web page in a graphical web editor, then saving</a:t>
            </a:r>
            <a:endParaRPr b="1" lang="en-US" sz="32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3E485-CFCD-4713-9768-25534FC7AAC8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8111"/>
                </a:solidFill>
                <a:latin typeface="Tahoma"/>
              </a:rPr>
              <a:t>Select Search Engine (SE)</a:t>
            </a: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Best Match for each Type of Search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  <a:p>
            <a:pPr marL="312120" indent="-31212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Major- Google, Yahoo, All The Web, etc. 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  <a:p>
            <a:pPr marL="312120" indent="-31212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Meta Search Tools Multiple SEs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  <a:p>
            <a:pPr marL="31212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2c8111"/>
              </a:solidFill>
              <a:latin typeface="Technical"/>
            </a:endParaRPr>
          </a:p>
          <a:p>
            <a:pPr marL="31212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2c8111"/>
              </a:solidFill>
              <a:latin typeface="Technical"/>
            </a:endParaRPr>
          </a:p>
          <a:p>
            <a:pPr marL="312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7b2d5b"/>
                </a:solidFill>
                <a:latin typeface="Technical"/>
              </a:rPr>
              <a:t>For a table of </a:t>
            </a:r>
            <a:r>
              <a:rPr b="1" lang="en-US" sz="2900" spc="-1" strike="noStrike" u="sng">
                <a:solidFill>
                  <a:srgbClr val="660066"/>
                </a:solidFill>
                <a:uFillTx/>
                <a:latin typeface="Technical"/>
                <a:hlinkClick r:id="rId1"/>
              </a:rPr>
              <a:t>SEs &amp; Other Searching Resources:</a:t>
            </a:r>
            <a:r>
              <a:rPr b="1" lang="en-US" sz="3200" spc="-1" strike="noStrike" u="sng">
                <a:solidFill>
                  <a:srgbClr val="660066"/>
                </a:solidFill>
                <a:uFillTx/>
                <a:latin typeface="Technical"/>
                <a:hlinkClick r:id="rId2"/>
              </a:rPr>
              <a:t> 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ahoma"/>
              </a:rPr>
              <a:t>http://www.mogadore.summit. k12.oh.us/portal/search.html</a:t>
            </a:r>
            <a:endParaRPr b="1" lang="en-US" sz="32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09BFB-1C6B-41BD-ADDB-E6ECEF81D179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c8111"/>
                </a:solidFill>
                <a:latin typeface="Tahoma"/>
              </a:rPr>
              <a:t>Gleaning (Saving)</a:t>
            </a:r>
            <a:endParaRPr b="1" lang="en-US" sz="48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8111"/>
                </a:solidFill>
                <a:latin typeface="Technical"/>
              </a:rPr>
              <a:t>Alternative- Use screen a recording software (Camtasia-Windows, Snapz- Mac, etc.) To capture the page and its links in “movie format” </a:t>
            </a:r>
            <a:endParaRPr b="1" lang="en-US" sz="40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0CDFE-F775-4CAC-A6FB-D1B1EF059DC5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c8111"/>
                </a:solidFill>
                <a:latin typeface="Tahoma"/>
              </a:rPr>
              <a:t>Gleaning (Getting Text)</a:t>
            </a:r>
            <a:endParaRPr b="1" lang="en-US" sz="48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Copy &amp; Paste into a word processor (WP)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  <a:p>
            <a:pPr marL="343080" indent="-34308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Often needs reformatting to remove paragraph returns at the end of each line (use find &amp; replace feature of WP) or other formatting tools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82032-82C2-404C-9231-E5B0CDA94920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c8111"/>
                </a:solidFill>
                <a:latin typeface="Tahoma"/>
              </a:rPr>
              <a:t>Gleaning (Getting Text)</a:t>
            </a:r>
            <a:endParaRPr b="1" lang="en-US" sz="48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8111"/>
                </a:solidFill>
                <a:latin typeface="Technical"/>
              </a:rPr>
              <a:t>Text vs. Graphics- not everything that looks like text is really text. Many titles, headers, selection "buttons", etc. are actually graphics</a:t>
            </a:r>
            <a:endParaRPr b="1" lang="en-US" sz="40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AB09E-2A4A-442E-932A-2C1306AE4A6E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c8111"/>
                </a:solidFill>
                <a:latin typeface="Tahoma"/>
              </a:rPr>
              <a:t>Gleaning (Getting Text)</a:t>
            </a:r>
            <a:endParaRPr b="1" lang="en-US" sz="48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8111"/>
                </a:solidFill>
                <a:latin typeface="Technical"/>
              </a:rPr>
              <a:t>Spreadsheets, Tables &amp; Databases</a:t>
            </a:r>
            <a:endParaRPr b="1" lang="en-US" sz="3200" spc="-1" strike="noStrike">
              <a:solidFill>
                <a:srgbClr val="2c8111"/>
              </a:solidFill>
              <a:latin typeface="Technic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8111"/>
                </a:solidFill>
                <a:latin typeface="Technical"/>
              </a:rPr>
              <a:t>Copy &amp; then use "Paste Special" when bringing data into spreadsheets</a:t>
            </a:r>
            <a:endParaRPr b="1" lang="en-US" sz="3200" spc="-1" strike="noStrike">
              <a:solidFill>
                <a:srgbClr val="2c8111"/>
              </a:solidFill>
              <a:latin typeface="Technic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8111"/>
                </a:solidFill>
                <a:latin typeface="Technical"/>
              </a:rPr>
              <a:t>Often data will be in one cell per row. To separate into multiple columns use parsing or "text to table" functions</a:t>
            </a:r>
            <a:endParaRPr b="1" lang="en-US" sz="3200" spc="-1" strike="noStrike">
              <a:solidFill>
                <a:srgbClr val="2c8111"/>
              </a:solidFill>
              <a:latin typeface="Technic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8111"/>
                </a:solidFill>
                <a:latin typeface="Technical"/>
              </a:rPr>
              <a:t>If data is separated improperly (not in the needed format) use concatenation function</a:t>
            </a:r>
            <a:endParaRPr b="1" lang="en-US" sz="32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B0F96-923E-42BA-873F-B21476314CB9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8111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2c8111"/>
                </a:solidFill>
                <a:latin typeface="Tahoma"/>
              </a:rPr>
              <a:t>Observe Copyright- Resources</a:t>
            </a:r>
            <a:endParaRPr b="1" lang="en-US" sz="48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Copyright Information Links from Stanford University-- </a:t>
            </a:r>
            <a:r>
              <a:rPr b="1" lang="en-US" sz="3200" spc="-1" strike="noStrike">
                <a:solidFill>
                  <a:srgbClr val="8b357f"/>
                </a:solidFill>
                <a:latin typeface="Andale Mono"/>
              </a:rPr>
              <a:t>http://fairuse.stanford.edu/</a:t>
            </a:r>
            <a:endParaRPr b="1" lang="en-US" sz="32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B7A1A-EB46-454C-A2F6-7AAC22AD09B1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c8111"/>
                </a:solidFill>
                <a:latin typeface="Tahoma"/>
              </a:rPr>
              <a:t>Observe Copyright</a:t>
            </a:r>
            <a:endParaRPr b="1" lang="en-US" sz="48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Electronic format lends itself to very easy duplication, distribution and resulting copyright violations and/or plagiarism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Citations for web research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Digital Millennium Copyright Act of 1998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27D80-626E-413F-A8A0-5E6E145256E5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c8111"/>
                </a:solidFill>
                <a:latin typeface="Tahoma"/>
              </a:rPr>
              <a:t>Observe Copyright</a:t>
            </a:r>
            <a:endParaRPr b="1" lang="en-US" sz="48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Plagiarism- Web can enable plagiarism both individualized or as a business (“Internet Paper Mills.”) Web can also detect and deter plagiarism with sites such as “Turn It In .com.”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70E35-617D-4D1A-B24D-8C27BB66A2D2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8111"/>
                </a:solidFill>
                <a:latin typeface="Tahoma"/>
              </a:rPr>
              <a:t>!</a:t>
            </a:r>
            <a:r>
              <a:rPr b="1" lang="en-US" sz="4400" spc="-1" strike="noStrike">
                <a:solidFill>
                  <a:srgbClr val="2c8111"/>
                </a:solidFill>
                <a:latin typeface="Tahoma"/>
              </a:rPr>
              <a:t>   “...and then...”</a:t>
            </a: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Evaluate the effectiveness of your search by trying alternative search engines and recursive searching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E14BA-FE64-461C-8876-619F0F9B722D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8111"/>
                </a:solidFill>
                <a:latin typeface="Tahoma"/>
              </a:rPr>
              <a:t>!</a:t>
            </a:r>
            <a:r>
              <a:rPr b="1" lang="en-US" sz="4400" spc="-1" strike="noStrike">
                <a:solidFill>
                  <a:srgbClr val="2c8111"/>
                </a:solidFill>
                <a:latin typeface="Tahoma"/>
              </a:rPr>
              <a:t>   “...and then...”</a:t>
            </a: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Visit web sites on searching and search engines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  <a:p>
            <a:pPr marL="343080" indent="-34308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Visit web sites on evaluating the information you find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349B2-A499-4C32-895A-EF182B865984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8111"/>
                </a:solidFill>
                <a:latin typeface="Tahoma"/>
              </a:rPr>
              <a:t>!</a:t>
            </a:r>
            <a:r>
              <a:rPr b="1" lang="en-US" sz="4400" spc="-1" strike="noStrike">
                <a:solidFill>
                  <a:srgbClr val="2c8111"/>
                </a:solidFill>
                <a:latin typeface="Tahoma"/>
              </a:rPr>
              <a:t>   “...and then...”</a:t>
            </a: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Lean how to set preferences on favorite search engine(s)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  <a:p>
            <a:pPr marL="343080" indent="-34308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Read a book *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  <a:p>
            <a:pPr marL="343080" indent="-34308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Try something different– Web Brain.Com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F9EB-CEA3-4512-9E1B-61D224FAF766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8111"/>
                </a:solidFill>
                <a:latin typeface="Tahoma"/>
              </a:rPr>
              <a:t>Search Engines (SE)</a:t>
            </a: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8111"/>
                </a:solidFill>
                <a:latin typeface="Technical"/>
              </a:rPr>
              <a:t>Specialized Search Tools (Anywho, Singing Fish, Who Is, Mapquest, Goggle Images, etc.)</a:t>
            </a:r>
            <a:endParaRPr b="1" lang="en-US" sz="4000" spc="-1" strike="noStrike">
              <a:solidFill>
                <a:srgbClr val="2c8111"/>
              </a:solidFill>
              <a:latin typeface="Technical"/>
            </a:endParaRPr>
          </a:p>
          <a:p>
            <a:pPr marL="343080" indent="-343080">
              <a:spcBef>
                <a:spcPts val="10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8111"/>
                </a:solidFill>
                <a:latin typeface="Technical"/>
              </a:rPr>
              <a:t>Indexes &amp; Databases (SIRS, LEXIS-NEXIS, AMICO, etc.)</a:t>
            </a:r>
            <a:endParaRPr b="1" lang="en-US" sz="40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Date Placeholder 4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Footer Placeholder 5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Slide Number Placeholder 6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B38E7-EA89-469B-9805-AFDA3471D458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Picture 4" descr="C:\Documents and Settings\Administrator\My Documents\osn\tech_conf_04\honolulu.gif"/>
          <p:cNvPicPr/>
          <p:nvPr/>
        </p:nvPicPr>
        <p:blipFill>
          <a:blip r:embed="rId1"/>
          <a:stretch/>
        </p:blipFill>
        <p:spPr>
          <a:xfrm>
            <a:off x="2154240" y="228600"/>
            <a:ext cx="4778280" cy="632448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60984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efde3"/>
                </a:solidFill>
                <a:latin typeface="Tahoma"/>
              </a:rPr>
              <a:t>Hawaii</a:t>
            </a:r>
            <a:endParaRPr b="1" lang="en-US" sz="800" spc="-1" strike="noStrike">
              <a:solidFill>
                <a:srgbClr val="2c8111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73B0D-8A16-477C-A75D-988417AAA327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8111"/>
                </a:solidFill>
                <a:latin typeface="Tahoma"/>
              </a:rPr>
              <a:t>Resources </a:t>
            </a: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Download this presentation &amp; see links to other resources and view information on my previous presentations at: 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http://www.mogadore.summit.k12.oh.us/OSN_conf.html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E24A-C595-47A8-A268-9376E6BE9C4A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8111"/>
                </a:solidFill>
                <a:latin typeface="Tahoma"/>
              </a:rPr>
              <a:t>Contact Information </a:t>
            </a: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Anthony A. Luscre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  <a:p>
            <a:pPr marL="343080" indent="-34308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Mogadore Local Schools 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  <a:p>
            <a:pPr marL="343080" indent="-34308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mo_luscre@neonet.k12.oh.us 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  <a:p>
            <a:pPr marL="343080" indent="-34308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Visit our district’s web portal-- http://www.mogadore.summit.k12.oh. us/portal_pages.html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FB5B5-D361-4067-859B-3BD2520353FE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8111"/>
                </a:solidFill>
                <a:latin typeface="Tahoma"/>
              </a:rPr>
              <a:t>Advanced Pages (AP)</a:t>
            </a: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Use the "Advanced Searching" page of Search Engines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  <a:p>
            <a:pPr marL="343080" indent="-343080">
              <a:spcBef>
                <a:spcPts val="799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AP automatically incorporates Boolean Logic into a search by user entering information in text boxes  </a:t>
            </a:r>
            <a:r>
              <a:rPr b="1" lang="en-US" sz="3200" spc="-1" strike="noStrike">
                <a:solidFill>
                  <a:srgbClr val="2c8111"/>
                </a:solidFill>
                <a:latin typeface="Technical"/>
              </a:rPr>
              <a:t>(No knowledge of Boolean Logic required.)</a:t>
            </a:r>
            <a:endParaRPr b="1" lang="en-US" sz="32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7DA65-CE6C-4DA6-99D4-79E718EB4654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8111"/>
                </a:solidFill>
                <a:latin typeface="Tahoma"/>
              </a:rPr>
              <a:t>Advanced Page</a:t>
            </a: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Initially “looks harder to use”. Actually much simpler, even for younger students, because there is no need to know Boolean Logic phrasing.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  <a:p>
            <a:pPr marL="343080" indent="-34308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Greatly increases chances of successful searching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Date Placeholder 3"/>
          <p:cNvSpPr/>
          <p:nvPr/>
        </p:nvSpPr>
        <p:spPr>
          <a:xfrm>
            <a:off x="1014480" y="6400800"/>
            <a:ext cx="19047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March 2004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Footer Placeholder 4"/>
          <p:cNvSpPr/>
          <p:nvPr/>
        </p:nvSpPr>
        <p:spPr>
          <a:xfrm>
            <a:off x="3048120" y="6400800"/>
            <a:ext cx="4038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Copyright 2004 Anthony A. Luscre Mogadore Local School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7162920" y="6400800"/>
            <a:ext cx="1623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4084F-B964-49D3-9993-9981D9A4BFC5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8111"/>
                </a:solidFill>
                <a:latin typeface="Tahoma"/>
              </a:rPr>
              <a:t>Advanced Pages (AP) </a:t>
            </a:r>
            <a:endParaRPr b="1" lang="en-US" sz="4400" spc="-1" strike="noStrike">
              <a:solidFill>
                <a:srgbClr val="2c8111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2c8111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8111"/>
                </a:solidFill>
                <a:latin typeface="Technical"/>
              </a:rPr>
              <a:t>Place links on your website to go directly to advanced search pages: Google, Yahoo, All The Web, Teoma, MetaCrawler, etc.</a:t>
            </a:r>
            <a:endParaRPr b="1" lang="en-US" sz="3600" spc="-1" strike="noStrike">
              <a:solidFill>
                <a:srgbClr val="2c8111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0T14:50:18Z</dcterms:created>
  <dc:creator>Anthony A. Luscre</dc:creator>
  <dc:description/>
  <dc:language>en-US</dc:language>
  <cp:lastModifiedBy>Charles Miller</cp:lastModifiedBy>
  <dcterms:modified xsi:type="dcterms:W3CDTF">2011-04-01T21:34:33Z</dcterms:modified>
  <cp:revision>118</cp:revision>
  <dc:subject/>
  <dc:title>Internet  Portals- Why Your District Needs One</dc:title>
</cp:coreProperties>
</file>